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8C9-F9D2-41D9-BF31-30C0417D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ECB5-8DFD-4E3E-8CC5-3DD97682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268-6474-4735-A61B-D2EB143A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D8E-BB9F-4DAB-907E-46EAFABF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A71D-B2C5-4DA7-9EED-61894E0C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950A-5B9A-4BA5-A394-082435C8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62D2-5CD3-42FD-805B-53260001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66DB-C902-44C8-9E1E-9C5861BB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26F8-05EA-47E3-8D65-F7DFDF9B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F62-B00B-420F-86AF-4EA01DD7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B61-52E8-49F1-895F-AB34047C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A620-7432-499F-81AB-58FA780D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1291-7A51-46DF-970B-73CC718D3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219240"/>
            <a:ext cx="3352680" cy="2206440"/>
            <a:chOff x="0" y="219240"/>
            <a:chExt cx="3352680" cy="2206440"/>
          </a:xfrm>
        </p:grpSpPr>
        <p:sp>
          <p:nvSpPr>
            <p:cNvPr id="42" name=""/>
            <p:cNvSpPr/>
            <p:nvPr/>
          </p:nvSpPr>
          <p:spPr>
            <a:xfrm>
              <a:off x="0" y="1875240"/>
              <a:ext cx="33526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Ich esse nicht Schokolade mit Alkohol, weil ich bin nicht betrunken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761760" y="219240"/>
              <a:ext cx="1793520" cy="1585080"/>
              <a:chOff x="761760" y="219240"/>
              <a:chExt cx="1793520" cy="1585080"/>
            </a:xfrm>
          </p:grpSpPr>
          <p:pic>
            <p:nvPicPr>
              <p:cNvPr id="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82320" y="377640"/>
                <a:ext cx="794160" cy="132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761760" y="219240"/>
                <a:ext cx="1793520" cy="1585080"/>
              </a:xfrm>
              <a:prstGeom prst="ellipse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1108800" y="430200"/>
                <a:ext cx="1157040" cy="121500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" name=""/>
          <p:cNvGrpSpPr/>
          <p:nvPr/>
        </p:nvGrpSpPr>
        <p:grpSpPr>
          <a:xfrm>
            <a:off x="6400800" y="225360"/>
            <a:ext cx="2286000" cy="2410920"/>
            <a:chOff x="6400800" y="225360"/>
            <a:chExt cx="2286000" cy="2410920"/>
          </a:xfrm>
        </p:grpSpPr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6770520" y="225360"/>
              <a:ext cx="1887840" cy="176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400800" y="2085840"/>
              <a:ext cx="228600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Ich spiele Fu</a:t>
              </a: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ßball meisten, dass ich muss fit halten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172200" y="2819520"/>
            <a:ext cx="2819520" cy="2302920"/>
            <a:chOff x="6172200" y="2819520"/>
            <a:chExt cx="2819520" cy="230292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6477120" y="2819520"/>
              <a:ext cx="2209680" cy="16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172200" y="4572000"/>
              <a:ext cx="2819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Ich gehe nach Subway mit dem Rad, weil es hält mich starke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57200" y="2819520"/>
            <a:ext cx="2209680" cy="2379240"/>
            <a:chOff x="457200" y="2819520"/>
            <a:chExt cx="2209680" cy="2379240"/>
          </a:xfrm>
        </p:grpSpPr>
        <p:pic>
          <p:nvPicPr>
            <p:cNvPr id="54" name="" descr=""/>
            <p:cNvPicPr/>
            <p:nvPr/>
          </p:nvPicPr>
          <p:blipFill>
            <a:blip r:embed="rId4"/>
            <a:srcRect l="10052" t="0" r="11559" b="4153"/>
            <a:stretch/>
          </p:blipFill>
          <p:spPr>
            <a:xfrm>
              <a:off x="609480" y="2819520"/>
              <a:ext cx="1981440" cy="16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57200" y="4648320"/>
              <a:ext cx="22096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500" spc="-1" strike="noStrike">
                  <a:solidFill>
                    <a:srgbClr val="000000"/>
                  </a:solidFill>
                  <a:latin typeface="Times New Roman"/>
                </a:rPr>
                <a:t>Daniel siest TV meisten, weil er faul ist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429000" y="593640"/>
            <a:ext cx="2286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Cameron läuft denn er will einen Marathon laufe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4479840"/>
            <a:ext cx="2971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Ich darf nicht essen Eis vor ich esse mein Obst denn Eis ist ungesun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422440"/>
            <a:ext cx="2362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Ich darf viele Kürbis torte essen, Kürbis ist gesund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8:19:13Z</dcterms:created>
  <dc:creator>CUSD220</dc:creator>
  <dc:description/>
  <dc:language>en-US</dc:language>
  <cp:lastModifiedBy>CUSD220</cp:lastModifiedBy>
  <dcterms:modified xsi:type="dcterms:W3CDTF">2012-02-24T18:32:44Z</dcterms:modified>
  <cp:revision>4</cp:revision>
  <dc:subject/>
  <dc:title>Slide 1</dc:title>
</cp:coreProperties>
</file>